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2F50-C299-4127-8769-DFEA2362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79D-9273-4809-AD8B-8D430881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13C-D6A0-444D-88D6-2A2708B2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77D-334B-4D76-B5F9-891E8339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CF7-BE51-452A-9742-D8474905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142-E7CA-4D37-B98A-D0D18364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7B9-B7DC-4929-B0FA-D41F8856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E85-7530-47E9-B2E1-A72180BB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5BBC-55F7-45DF-BB17-19A59551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5DA2-017D-491F-B5BB-EA930A20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1AF-1C50-48E3-BF71-5DF67780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5DE-D67A-4952-B230-B05CD916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1277-EAFD-42E5-A011-62C082668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" Target="slide18.xml"/><Relationship Id="rId6" Type="http://schemas.openxmlformats.org/officeDocument/2006/relationships/slide" Target="slide20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6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7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e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oun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of this fresh water sinks into the_________, some collects in _______ and ________, and some is frozen in ______and 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ground, in rivers and lakes, and ice sheets and glacier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in or melted snow that soaks into the ground is called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round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tops ground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layer of rock or clay that it cannot move through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is fresh water different from ocean wate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fresh water has some dissolved salts, but much less than seawater ha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layer of rock and soil that holds the groundwater is an_________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quif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 than ________    of Earth’s water is fresh wate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op level of groundwater in an aquifer is the_______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ater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rface waters include_______, _________, and 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rivers, streams, and lak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lting snow, rain water, and groundwater all help form Earth’s________  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rface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area from which water drains into a river is called the river’s_____________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iver’s watersh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forms when water collects in a low spot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la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3/100 or 3 hundreth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____________is an artificial lake that forms behind a dam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eservo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 ______   of Earth’s fresh water is frozen into i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7/10 or 7 tenth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ch of Earth’s ice is on ___________ and ___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Greenland and Antarctica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 places where glaciers and ice sheets reach the ocean, large pieces of ice can break off. The floating pieces of ice are 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iceberg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the weight of new snow squeezes  snow into ice what is formed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glaciers and ice sheets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is what we use for drinking, cooking, and cleaning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ocean water freezes the salt is pushed out of the ice crystals as they form. This causes the water around the new ice to become more 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re sal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towns in the United States get their water from ____________or _________  ____________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 an easy source of fresh wa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groundwater or surface w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might surface water might get harmful bacteria or chemic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mful chemicals or bacteria can wash off farm field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king lots, and even lawns that can end up in rivers and lak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first step in water treat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pumping water from groundwater and lakes to treatment pla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chemicals 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ed to the water and tiny sticky particles attract dirt particles; what happens to these dirt particles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articl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come heavy enough to sink to the bottom of a tank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Fresh Water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fter the water passes through filters (one of the final steps), what is added to the water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dd a small amount of chlorine to ki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rmful bacteria, and  add fluoride to help your teet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ist decay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46479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most all of Earth’s fresh water starts as_______ or 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ain or s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sides drinking, cooking, and cleaning, we also use fresh water to__________, make _________, and make many 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row crops, make electricity, and make many product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1-02-08T19:03:16Z</dcterms:modified>
  <cp:revision>56</cp:revision>
  <dc:subject/>
  <dc:title>No Slide Title</dc:title>
</cp:coreProperties>
</file>